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13.wmf" ContentType="image/x-wmf"/>
  <Override PartName="/ppt/media/image8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7.jpeg" ContentType="image/jpeg"/>
  <Override PartName="/ppt/media/image11.wmf" ContentType="image/x-wmf"/>
  <Override PartName="/ppt/media/image6.wmf" ContentType="image/x-wmf"/>
  <Override PartName="/ppt/media/image9.wmf" ContentType="image/x-wmf"/>
  <Override PartName="/ppt/media/image23.wmf" ContentType="image/x-wmf"/>
  <Override PartName="/ppt/media/image22.wmf" ContentType="image/x-wmf"/>
  <Override PartName="/ppt/media/image18.jpeg" ContentType="image/jpeg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jpeg" ContentType="image/jpeg"/>
  <Override PartName="/ppt/media/image5.jpeg" ContentType="image/jpeg"/>
  <Override PartName="/ppt/media/image20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4C9B-6D78-4EA7-B9D1-F43A4E2C4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F46F-5570-4D15-B794-C2CB83363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34E7-5004-4FA5-87EB-2C903772E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9993-FC6A-42A6-991C-55A24248F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0974C-D454-4654-9DCA-DA64F868B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D0C57-DB4B-4866-B134-69CB2376D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24548-C537-42A0-878D-D641E6C32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9E28D-870D-4413-BB46-643E04038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20DBB-B94E-4BE1-AA14-D9BAEF885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B7E61-A06B-4082-8779-38598B621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06FCF-3C23-484D-AC7B-649C8994E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BEB0-8492-4F52-839E-15B039827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26E8E-7166-42B7-B8E3-8B97C9D9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58369-4DC2-4DB6-B505-82984914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89932-7808-4E29-86C6-F4D53D989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52111-AA29-48C8-A0B7-6F3D414EC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E6AB0-EA1D-4586-8D47-5C7EB9FCE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3C27B-7954-49F1-9079-9FEBB3E60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132FA-7CD0-4808-9148-F0B908473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AF2DF-9918-46CC-B585-3E090C5E6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42EDC-E31D-4F3D-B79E-3082EF2AB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92B9B-7A60-4199-904C-225E38F35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BD6A-8E7E-47C0-AF1E-418B77B1C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8B8DB-1373-4A50-BB4D-0956AA098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A081A-680C-4F04-B340-B903557F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79DA7-3C30-4316-901A-E2D0B77C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27E57-A6CC-4621-A56A-8E3E548C8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0A991-404B-4D1C-8696-C59CBDB7E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FF1EB-95EF-4702-BDEF-CF14C4F5E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93407-ABE0-4FF2-947C-E3B6B36DC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98C6-90C6-40BF-B25B-B3424B63A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A8BE-FF52-4406-93D8-541B7404A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0F1D-D3A7-4CBF-914E-F48875F38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CA57-F9AC-4FC8-BA14-2DD21E6D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6F15-3464-4D14-9282-5689A7E0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293C-4523-4B93-B5C0-237D642B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72CB3-5847-4DF7-A06A-EE66DE481A99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AEE08-CF73-43F2-823C-2D06BD2585E4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20BBD-D4B6-46C4-8783-714455F497F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08000" y="1844640"/>
            <a:ext cx="676944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000000"/>
                </a:solidFill>
                <a:latin typeface="Century Gothic"/>
              </a:rPr>
              <a:t>Posibilidades de Desarrollo del Sector Algodone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2268360" y="3645000"/>
            <a:ext cx="5796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entury Gothic"/>
              </a:rPr>
              <a:t>Fernando Cillóni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1800" spc="-1" strike="noStrike">
                <a:solidFill>
                  <a:srgbClr val="000000"/>
                </a:solidFill>
                <a:latin typeface="Times New Roman"/>
              </a:rPr>
              <a:t>inform</a:t>
            </a:r>
            <a:r>
              <a:rPr b="1" i="1" lang="es-PE" sz="1800" spc="-1" strike="noStrike">
                <a:solidFill>
                  <a:srgbClr val="ff3300"/>
                </a:solidFill>
                <a:latin typeface="Times New Roman"/>
              </a:rPr>
              <a:t>@</a:t>
            </a:r>
            <a:r>
              <a:rPr b="1" i="1" lang="es-PE" sz="1800" spc="-1" strike="noStrike">
                <a:solidFill>
                  <a:srgbClr val="000000"/>
                </a:solidFill>
                <a:latin typeface="Times New Roman"/>
              </a:rPr>
              <a:t>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65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65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134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andes Exportadores</a:t>
            </a:r>
            <a:br>
              <a:rPr sz="15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antidades en millones de TM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0" y="1135080"/>
          <a:ext cx="9085320" cy="539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35080"/>
                    <a:ext cx="9085320" cy="53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cios FOB Desmotadora</a:t>
            </a:r>
            <a:br>
              <a:rPr sz="2600"/>
            </a:b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US$ por QQ Fibr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0" y="1225440"/>
          <a:ext cx="9144000" cy="524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225440"/>
                    <a:ext cx="9144000" cy="52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Verdana"/>
              </a:rPr>
              <a:t>Importación de Algodón en Valores </a:t>
            </a:r>
            <a:br>
              <a:rPr sz="1900"/>
            </a:br>
            <a:r>
              <a:rPr b="1" lang="es-ES" sz="1900" spc="-1" strike="noStrike">
                <a:solidFill>
                  <a:srgbClr val="000000"/>
                </a:solidFill>
                <a:latin typeface="Verdana"/>
              </a:rPr>
              <a:t>(Millones de US$ CIF)</a:t>
            </a:r>
            <a:br>
              <a:rPr sz="1900"/>
            </a:br>
            <a:r>
              <a:rPr b="1" lang="es-ES" sz="1900" spc="-1" strike="noStrike">
                <a:solidFill>
                  <a:srgbClr val="000000"/>
                </a:solidFill>
                <a:latin typeface="Verdana"/>
              </a:rPr>
              <a:t>2000-2004*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33200" y="1461960"/>
          <a:ext cx="8907480" cy="474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3200" y="1461960"/>
                    <a:ext cx="890748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735120" y="6324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-35640" y="6173640"/>
            <a:ext cx="2171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(*)Datos al mes de agos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Fuente: Adua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Elaboración: inform</a:t>
            </a: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@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763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Volúmenes Importados de Algodón (Miles de TM) </a:t>
            </a:r>
            <a:br>
              <a:rPr sz="2100"/>
            </a:b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2000-2004*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50920" y="1492200"/>
          <a:ext cx="8672400" cy="4713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492200"/>
                    <a:ext cx="8672400" cy="471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735120" y="6324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-35640" y="6173640"/>
            <a:ext cx="2171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(*)Datos al mes de agos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Fuente: Adua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Elaboración: inform</a:t>
            </a: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@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800" spc="-1" strike="noStrike">
                <a:solidFill>
                  <a:srgbClr val="000000"/>
                </a:solidFill>
                <a:latin typeface="Verdana"/>
              </a:rPr>
              <a:t>Comparación Perú vs. Brasi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Productivi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Cost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Cali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ultado Perú vs. Brasil</a:t>
            </a:r>
            <a:br>
              <a:rPr sz="3400"/>
            </a:b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atos en kilos y US$ por H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04840" y="1268280"/>
          <a:ext cx="8759880" cy="5321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4840" y="1268280"/>
                    <a:ext cx="8759880" cy="532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nitarios Perú vs. Brasil</a:t>
            </a:r>
            <a:br>
              <a:rPr sz="3000"/>
            </a:b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roducción en QQ Fibra, Valores en US$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17360" y="1212840"/>
          <a:ext cx="8893440" cy="5456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7360" y="1212840"/>
                    <a:ext cx="8893440" cy="54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racterísticas del Negocio Algodonero en el Per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476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ultivado por pequeños agricult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cnología baj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stigación en recupera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lexibilizado uso de genética extranjer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lidad de fibra buen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cios del mercado reconocen calid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116000" y="404640"/>
            <a:ext cx="7772400" cy="53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cios internos afectados por subsidi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ultivo sensible sin corrección de distorsiones en el Per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ducción nacional con tendencia negativ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manda local en crecimiento por exportaciones de confecc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mportaciones en crecimient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tencial para incrementar áre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ueva experiencia en el negocio del algodó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15640" y="2131560"/>
            <a:ext cx="701028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yecto basado en algod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 la Región Lambayeq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Zona de Jayanc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280" y="52200"/>
            <a:ext cx="800100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800" spc="-1" strike="noStrike">
                <a:solidFill>
                  <a:srgbClr val="000000"/>
                </a:solidFill>
                <a:latin typeface="Verdana"/>
              </a:rPr>
              <a:t>Índi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El algodón en el mun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Principales product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Principales consumid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Principales exportad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Pre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Referencia Brasi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Experiencia algodonera Lambayequ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bjetivo/Premis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55280" y="1267920"/>
            <a:ext cx="7993080" cy="39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7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bra extra larga: Pima o equivalente como Híbri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7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ductividad mínima 80 qq en rama por h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7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eríodo vegetativo 180 días campo limpi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7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sibilidad de cultivo complementari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142640" y="134136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2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Alta tecnologí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2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Riego 100% bombeo aceptab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2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Área ideal 500 has o má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ccio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55640" y="46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15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úsqueda de inversionist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15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pra de tierra en subasta Proinvers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15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,200 has ex Plan Piloto Olm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15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ozos perforados 20, 1,000 lt/seg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15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ena pro Dic 2001, entrega Ene 2002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15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curso suministro de riego por gote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899640" y="549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Instalación red eléctric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esbos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iembra 150 has Feb 2003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iembra 300 has Feb 200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Lambaye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14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Pima Hazera: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1,400 ha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14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Del Cerro: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   800 ha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2195640" y="498708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250920" y="811080"/>
          <a:ext cx="8789760" cy="5662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811080"/>
                    <a:ext cx="8789760" cy="566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2972160" y="157320"/>
            <a:ext cx="332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Resultados por H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"/>
          <p:cNvGraphicFramePr/>
          <p:nvPr/>
        </p:nvGraphicFramePr>
        <p:xfrm>
          <a:off x="133200" y="781200"/>
          <a:ext cx="8863200" cy="5692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3200" y="781200"/>
                    <a:ext cx="8863200" cy="56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539640" y="1890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Resultados por Un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Calidad de Fibr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281160" y="1062000"/>
          <a:ext cx="8699400" cy="533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160" y="1062000"/>
                    <a:ext cx="8699400" cy="53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3000" y="189000"/>
            <a:ext cx="80010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800" spc="-1" strike="noStrike">
                <a:solidFill>
                  <a:srgbClr val="000000"/>
                </a:solidFill>
                <a:latin typeface="Verdana"/>
              </a:rPr>
              <a:t>Conclusio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Algodón: buena alternativa para agro nacional por mercado y áreas extensas. Costa y Selv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roducción nacional de fibra extra larga es fundamental para competitividad de cadena textil y confecciones; somos deficitarios, somos competitivo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endencia estratégica de producción hacia fibras extra largas. Tienen menos distorsiones y tenemos mejores ventajas competitivas, inclusive para exporta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687240" y="40464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4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Mercado reconoce calidad y se manifiesta en el preci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El algodón responde bien al uso de alta tecnología, inclusive a la relativa alta inversión de riego por gote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romover y facilitar acceso y uso de tecnología genética mas modern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Modernizar la reglamentación del cultivo y de la producción e importación de semill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Reflexio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15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5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700" spc="-1" strike="noStrike">
                <a:solidFill>
                  <a:srgbClr val="000000"/>
                </a:solidFill>
                <a:latin typeface="Verdana"/>
              </a:rPr>
              <a:t>El desarrollo del agro necesita de todos los cultivos y productos que tengan mercado y seamos competitivos, …corrigiendo distorsiones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0320" y="260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ercado Mundial</a:t>
            </a:r>
            <a:br>
              <a:rPr sz="3400"/>
            </a:b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En Millones de TM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08000" y="1386000"/>
          <a:ext cx="8856720" cy="4984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386000"/>
                    <a:ext cx="8856720" cy="49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755640" y="1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7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Verdana"/>
              </a:rPr>
              <a:t>Después de años de distanciamiento entre subsectores del agro, se esta gestando la unión entre los agricultores y los eslabones siguientes de las caden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539280" y="836280"/>
            <a:ext cx="8209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Se esta logrando, finalmente, la unidad en el agr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Se esta logrando que el agro unido recupere su espacio en todas las esferas: Gobierno, negociaciones internacional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539280" y="1466640"/>
            <a:ext cx="8209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Por qué no se ha desarrollado más el sector algodonero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Cuál es el diagnóstico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"/>
          <p:cNvSpPr/>
          <p:nvPr/>
        </p:nvSpPr>
        <p:spPr>
          <a:xfrm>
            <a:off x="1420200" y="549360"/>
            <a:ext cx="598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Verdana"/>
              </a:rPr>
              <a:t>Preguntas Patricia Teullet - COM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539280" y="475920"/>
            <a:ext cx="8209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Es posible recuperar el cultivo de algodón en el Perú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539280" y="475920"/>
            <a:ext cx="8209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Somos competitivos en la producción de algodón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Cuál es nuestro rendimiento y cuál es nuestro costo de producción por hectárea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Cómo se compara esto internacionalment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539280" y="475920"/>
            <a:ext cx="8209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Si se decidiera promover el cultivo de algodón,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Cuáles son los mecanismos para hacerlo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Qué tipo de cultivos se debe promover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539280" y="475920"/>
            <a:ext cx="8209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Entre las medidas a adoptar, existe algún tipo de restricción a la importación (aranceles o sobretasas)? Si fuera así. ¿Cómo afecta esto las posibilidades de desarrollo de la industria textil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539280" y="476280"/>
            <a:ext cx="8209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21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Verdana"/>
              </a:rPr>
              <a:t>¿Se puede equilibrar el desarrollo del sector algodonero con el de la industria de textiles y confecciones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21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Verdana"/>
              </a:rPr>
              <a:t>¿Es cierto que el sector textil, para ser competitivo internacionalmente, necesita algodón muy barato y, por tanto, comprarlo subsidiado constituye una ventaja necesario para poder colocar sus productos en el exterior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250920" y="1268280"/>
          <a:ext cx="8731080" cy="5073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268280"/>
                    <a:ext cx="8731080" cy="507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2010600" y="692280"/>
            <a:ext cx="5149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Producción Mundial de Algod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117360" y="1619280"/>
          <a:ext cx="8923320" cy="4762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7360" y="1619280"/>
                    <a:ext cx="892332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2212200" y="368280"/>
            <a:ext cx="4608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Participación del Perú 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Fibras Largas y Extra Larg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hina</a:t>
            </a:r>
            <a:br>
              <a:rPr sz="3400"/>
            </a:b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En Millones de TM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0" y="914400"/>
          <a:ext cx="9158400" cy="576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14400"/>
                    <a:ext cx="9158400" cy="576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stados Unidos</a:t>
            </a:r>
            <a:br>
              <a:rPr sz="34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En Millones de TM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0" y="987480"/>
          <a:ext cx="9158400" cy="560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87480"/>
                    <a:ext cx="9158400" cy="560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03240" y="430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andes Productores</a:t>
            </a:r>
            <a:br>
              <a:rPr sz="3000"/>
            </a:b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n millones de TM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0" y="1031760"/>
          <a:ext cx="9040680" cy="554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031760"/>
                    <a:ext cx="9040680" cy="55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0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andes Consumidores</a:t>
            </a:r>
            <a:br>
              <a:rPr sz="30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n Millones de TM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58680" y="841320"/>
          <a:ext cx="8952120" cy="5840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680" y="841320"/>
                    <a:ext cx="8952120" cy="584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4T02:39:57Z</dcterms:created>
  <dc:creator>ACilloniz</dc:creator>
  <dc:description/>
  <dc:language>en-US</dc:language>
  <cp:lastModifiedBy>PCLARCE</cp:lastModifiedBy>
  <dcterms:modified xsi:type="dcterms:W3CDTF">2004-09-30T22:56:41Z</dcterms:modified>
  <cp:revision>115</cp:revision>
  <dc:subject/>
  <dc:title>Mercado Mundial</dc:title>
</cp:coreProperties>
</file>